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49405-01CF-4142-80ED-0354C692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AE79E-432E-4CF4-A884-E32CB771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6C678-1CBD-40F5-BE25-17F23CC5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7A2FC-E0CC-4DE6-8ED3-C4A9F2436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434C0-6964-4AE2-B9F2-03434F82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6BFA-F767-4856-A666-68EE5D341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5BBEF-5E2E-465C-B4B5-08E79203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0A436-0780-47F8-927F-D916AC90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B9C8B-58FE-4B2E-B5C8-74BF02DD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98F24-52E3-41F9-91EA-5BA2D44CD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A5B34-5825-41EF-B505-F5054AB6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578A1-4A0A-482B-9866-9680867D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5B71F-3D1E-4F14-B3E6-8CF9F551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A2D-139F-4210-9447-69644F42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9CE-D1ED-4628-94CC-9B3BE84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63C-3227-4E73-9272-82A922B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686-CFA4-438C-9286-6308F622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13B-7EBF-42E5-BB21-3A3A0211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042-5465-478B-9AAC-55871E5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2DA-306D-482B-8122-C6D8265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731-1939-4C95-A6C0-E4E9D7A4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3FF-626C-4CF3-BD23-AE60896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DEB-6687-4E17-9BBF-CBF2701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497-A2A5-449F-89FC-4202107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7A6-A566-4059-B192-C8840E85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B4FBE-B3EB-492C-97E8-D8371EBE9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49240" y="1722600"/>
            <a:ext cx="87249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p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who fall outside the national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/>
  <dc:description/>
  <dc:language>en-US</dc:language>
  <cp:lastModifiedBy>Dom Lambek</cp:lastModifiedBy>
  <dcterms:modified xsi:type="dcterms:W3CDTF">2018-01-03T12:55:55Z</dcterms:modified>
  <cp:revision>5</cp:revision>
  <dc:subject/>
  <dc:title>20th Century “Isms” Review</dc:title>
</cp:coreProperties>
</file>